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chimes.wav" ContentType="audio/x-wav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C1D9-AD71-4207-BCD4-75EC8F5A7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C007-F2EE-4A50-AED9-B1ADCFB183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B831-8E8E-4340-8E56-BBE108BC63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9E1B-F96E-4568-80D6-F821CA8A92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C4C2-CF62-4B64-A9C7-72CE9E1909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0661-F8E1-4757-A3CB-4E72885EA9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B86-2AB8-452F-B4F8-1A9730CE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08E-C0CB-4814-B8E4-2D17A054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85F-D482-4E19-ABD2-97D16B52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E7F-ED0E-4536-B11F-A7281A28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5161-ACC3-4544-9DED-10C0C1DA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BAD1-0C5E-49BB-85FD-C89B2531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96E0-F433-46BF-AF35-55B6656F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290F-0356-4CF0-9CBC-6457B4C1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91CC-2496-419D-90F5-98AEE10B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C980-CF73-459D-9AA0-72E15E02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2C4A-8983-466A-A8F8-62C6B353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5E4-EEB5-44D4-AD98-62F39E5E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676E-8125-4079-A103-F0E0C6D6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305F-43CD-44CF-A7AE-17D0CAD1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25B4-E3BC-4728-BFD3-7633B15C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7969-9126-4F51-A176-636A1AD0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E845-0AE0-4077-957C-A32191AE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FAE-414A-4FBF-957C-1148A8E7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435-77D9-493C-8A01-B52449D9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76F-24C4-4CAD-8B9D-6ADD6F78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FF8-BEEE-424C-9013-99559F96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604-2E24-429E-93F0-1B39AF4B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51C-6B46-4978-9D22-C8C2E06A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0E0-8AB5-45C6-AFCB-AF83E6AE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4021-D925-4855-BE6E-E213CD008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5022-72F1-4B0A-AD6F-8BE1A8DD5A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NORTH KOREA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use your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AY SILENT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4191120" cy="34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In North Korea, Kim Jong Il was better known as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Great Leader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ear Lea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ivine Leader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Benevolent 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4479840" y="-228600"/>
            <a:ext cx="47880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185400"/>
            <a:ext cx="853452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Due to its extreme isolation from the rest of the world, North Korea is known as th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hermit kingd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ropaganda kingd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eaceful kingd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rosperous kingd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525240"/>
            <a:ext cx="853452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The line that separates North and South Korea is known 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37</a:t>
            </a:r>
            <a:r>
              <a:rPr b="1" lang="en-US" sz="4000" spc="-1" strike="noStrike" baseline="30000">
                <a:solidFill>
                  <a:srgbClr val="363636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Parall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TMZ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38</a:t>
            </a:r>
            <a:r>
              <a:rPr b="1" lang="en-US" sz="4000" spc="-1" strike="noStrike" baseline="30000">
                <a:solidFill>
                  <a:srgbClr val="363636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Parall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huche’ 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4191120" cy="34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In North Korea, Kim Il Sung was better known as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Great Leader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ear Lea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ivine Leader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Benevolent 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4343400" y="152280"/>
            <a:ext cx="493236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525240"/>
            <a:ext cx="853452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at is prominently displayed in </a:t>
            </a:r>
            <a:r>
              <a:rPr b="0" i="1" lang="en-US" sz="4400" spc="-1" strike="noStrike" u="sng">
                <a:solidFill>
                  <a:srgbClr val="000066"/>
                </a:solidFill>
                <a:uFillTx/>
                <a:latin typeface="Arial Black"/>
              </a:rPr>
              <a:t>every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North Korean hom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Anti-American Pi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35480" indent="-73548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Kim Jong Il’s Pain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35480" indent="-73548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The Communist Manifes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35480" indent="-73548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ictures of the Great &amp; Dear Lea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1-11T14:26:04Z</dcterms:modified>
  <cp:revision>133</cp:revision>
  <dc:subject/>
  <dc:title>D/O: TO EXPLAIN AND IDENTIFY PROBLEMS OF ECONOMICS</dc:title>
</cp:coreProperties>
</file>